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AB9-3434-4AC9-AFC7-13F67A44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AA6-89E6-434C-BD07-A5985E61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7A7-B731-4B7D-9737-E8236BAF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EF8-D482-4079-BB69-0BBBA985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3D9-354F-468E-AD34-677D15EA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013-69D3-440D-8332-A1F23B62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D80-F601-4774-890C-20CC85A8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765-DBB1-4BDE-B75A-C6941D8C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18C-1B93-4BFC-B164-8169AAD8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A76-7A23-4355-9552-905F133F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4E5-D0BC-426B-A99C-6B7EA29B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11D-AA7B-4766-8D3E-5DE45CFF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FD65-2F40-43F4-9D64-DDA7A0F40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dreamstime.com/soccer-ball-on-fire-thumb1275250.jpg&amp;imgrefurl=http://www.dreamstime.com/soccerballonfire-image1275250&amp;h=350&amp;w=247&amp;sz=15&amp;hl=en&amp;start=2&amp;tbnid=f9jjjjdG-MVS1M:&amp;tbnh=120&amp;tbnw=85&amp;prev=/images%3Fq%3Dsoccer%2Bball%2Bon%2Bfire%26gbv%3D2%26ndsp%3D20%26hl%3Den%26sa%3DN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innovativefundraising.net/assets/images/FlamingSoccerBall.gif&amp;imgrefurl=http://www.innovativefundraising.net/html/fire_depts.html&amp;h=267&amp;w=176&amp;sz=25&amp;hl=en&amp;start=14&amp;tbnid=81vjrpD4crPzvM:&amp;tbnh=113&amp;tbnw=74&amp;prev=/images%3Fq%3Dsoccer%2Bball%2Bon%2Bfire%26gbv%3D2%26ndsp%3D20%26hl%3Den%26sa%3DN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om/imgres?imgurl=http://www.dreamstime.com/soccer-ball-flames-thumb823798.jpg&amp;imgrefurl=http://www.dreamstime.com/soccer-ball-flames-image823798&amp;h=240&amp;w=300&amp;sz=35&amp;hl=en&amp;start=3&amp;tbnid=WIA2tKjAKgft8M:&amp;tbnh=93&amp;tbnw=116&amp;prev=/images%3Fq%3Dsoccer%2Bball%2Bon%2Bfire%26gbv%3D2%26ndsp%3D20%26hl%3Den%26sa%3DN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ages.google.com/imgres?imgurl=http://69.90.174.248/photos/display_pic_with_logo/3786/3786,1136920181,1.jpg&amp;imgrefurl=http://www.shutterstock.com/pic-873075-a-burning-soccer-ball.html&amp;h=470&amp;w=231&amp;sz=35&amp;hl=en&amp;start=13&amp;tbnid=mQJgwOny5PX1xM:&amp;tbnh=129&amp;tbnw=63&amp;prev=/images%3Fq%3Dsoccer%2Bball%2Bon%2Bfire%26gbv%3D2%26ndsp%3D20%26hl%3Den%26sa%3DN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images.google.com/imgres?imgurl=http://www.funnypart.com/pictures/FunnyPart-com-best_friends.jpg&amp;imgrefurl=http://www.abc.net.au/triplej/dools/blog/s2004273.htm&amp;h=464&amp;w=500&amp;sz=45&amp;hl=en&amp;start=17&amp;tbnid=jDc7edCGalkMkM:&amp;tbnh=121&amp;tbnw=130&amp;prev=/images%3Fq%3Dfunny%2Bfriends%26gbv%3D2%26hl%3De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hyperlink" Target="http://images.google.com/imgres?imgurl=http://yummybrainfood.files.wordpress.com/2008/04/goal.jpg&amp;imgrefurl=http://yummybrainfood.wordpress.com/2008/04/20/scoring-goals-in-the-game-of-life/&amp;h=600&amp;w=800&amp;sz=440&amp;hl=en&amp;start=1&amp;tbnid=rDgqSQZgvwU-FM:&amp;tbnh=107&amp;tbnw=143&amp;prev=/images%3Fq%3Dgoal%26gbv%3D2%26hl%3Den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Nick Heidtk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0720" y="4495680"/>
            <a:ext cx="1673280" cy="236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154160" cy="1762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268960"/>
            <a:ext cx="1981080" cy="158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96080" y="0"/>
            <a:ext cx="1447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532320"/>
            <a:ext cx="4572000" cy="332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17196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1066680"/>
            <a:ext cx="2209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M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90920" y="1219320"/>
            <a:ext cx="39052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M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3867120" cy="389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886200" y="2854440"/>
            <a:ext cx="5257800" cy="4003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05720" y="1143000"/>
            <a:ext cx="2438280" cy="182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0" y="1219320"/>
            <a:ext cx="22860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7:32Z</dcterms:created>
  <dc:creator>CGB</dc:creator>
  <dc:description/>
  <dc:language>en-US</dc:language>
  <cp:lastModifiedBy>CGB</cp:lastModifiedBy>
  <dcterms:modified xsi:type="dcterms:W3CDTF">2008-06-03T14:21:06Z</dcterms:modified>
  <cp:revision>4</cp:revision>
  <dc:subject/>
  <dc:title>Me </dc:title>
</cp:coreProperties>
</file>